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dt" idx="1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1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 type="sldNum" idx="1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58F7A-6295-4322-9836-238F03968E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2B4D3-8C34-411A-805F-889459DC72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7808F-8411-4CDC-BCBC-B144CBF375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5720D-CDAA-49E3-A17D-47B63C545CB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5D19E-AE52-4BE4-8BA2-AD9B137491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CCC7D-FFD7-4BED-BC42-FB468EC3059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465A9-D5C6-4DAD-B97E-D6F93B2CC5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C1561-ACC1-4FD9-80E3-A0A2D418B7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D29AF-FCB4-46DA-AF9A-8DB259C8DC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260EA-F157-4C55-8EDF-D1D09E96F5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6007A-C41D-4CAB-A44F-D23A7B8003EA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1110F-84F6-4E20-A4F7-B6F1837DDC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0FA70-633C-42D9-8776-560811A353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D963D-94A4-44D3-8362-2FDB226EE6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EA280-6261-4FDC-94A7-BDD5ED9693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8A6A3-9950-4ED3-80A4-9A70AD6057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1D43C-56DD-4579-9D25-DF5FFF260F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3C1F7-C5E6-49ED-ABAE-7921C9DF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30BCA-9E46-41AF-B92D-C30C01D9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B6339-5153-4A15-803D-3D43652D99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880C6-2066-484B-8827-7235D08620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33FD3-8122-4561-8561-FBFCFDF4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993B1-7141-4048-89F6-1211CDE2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AD1C7-7175-44E3-A9BD-141C3F05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95F0A-396F-4E0F-8BC7-04FEC41F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6A4C0-8800-43D0-9097-A46E50B3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CD528-7C3B-4100-9742-3727C549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9A605-7DC1-4317-BC65-EAB18BBA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3CCF1-8FFF-46C4-BA56-F104C994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E1637-813B-4593-81F9-F3C1A085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A464E-7753-4353-A622-6CAA65D5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DDA43-0AF0-4983-A124-4AB781AA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E971D-EFFB-432F-897E-8B5C84160F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AE01-5DFA-482E-B850-1378550CD3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E4B5-720F-41E8-BCB3-5C187F56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A2BB-ED8A-4A7B-AA47-481C252E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0C89-F924-4863-998B-4CEA992D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AF2E-A05D-459B-A431-496CFC4A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351EB-A488-48C0-996C-7087717F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6E6C-59B8-49A4-9F9E-C5243A48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D375-DBA9-4066-B660-598B9552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D824-3496-4D6F-80C0-62B45CE4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FA2D-E530-414B-86A9-D25859DB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6DF5-A77B-4A86-A1B6-4A6BDE1B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4673-813B-47C3-90A2-FE9F2983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C07D-B8B1-4F59-96D5-77F4217EEF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078A3-08E0-4822-AB51-AD1C212BC2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32B7A-9272-402F-A375-887A94E4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96091-3451-4B1C-AADB-9D4BA2B4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2446E-7AEE-4D78-A2A4-E5E6B43F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1B46B-F7A2-4A8E-875C-6ECE1499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9D444-2519-4BAA-9BF7-F51A20F4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462B0-4D1E-40D7-AF46-3F090FE0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852B4-537F-4826-AD6D-72984BE4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BD0A8-3ECA-4CA9-A5C1-85A59420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EB896-C660-43C4-976A-9190F77E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D54C5-F1DF-4576-89C1-52991075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29C0A-647F-4368-A7EC-C72A1085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4693B-EEEA-4ADB-B710-365E4A4DD2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847C01-00D6-495C-AD64-CCCA7C0274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9688D-178D-43AD-8C7C-23595384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D791A9-B5FA-4C80-BEF7-7B8C041E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A07FA3-1C22-4504-A8A7-C3140075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EFB738-0E59-48BA-BECB-4758FDA6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F762B-D9F9-4DD2-BE4F-04BA05CA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058E22-16CA-470D-9B1F-4ADF9C43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A0B9D2-CD25-47E0-942E-B3EE72C3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DB4D8-BA94-451F-9654-FB8AC209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A3000E-94E4-4F3F-BC40-F3D31F31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10E68F-4542-4575-876D-E4A47417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D7C84E-4008-4B03-AFDA-7B191EDF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69CE-4841-4289-AB66-D7845C40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3DEBF0-FEBB-4209-A766-ABE4FCCFF0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B4548-1CC5-404A-8608-B956602E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6FEE7-2FEE-4A4D-832E-6F266B6229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7E1BA-9FB6-41B9-9C11-A71AB82C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09DB7-F1DB-4F68-B85E-D428ED18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4851D-D487-4702-A3A3-5B23A67D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8C965-3DFA-4166-B7CD-54349F5C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8C2FF-9F7F-4A33-ABE6-8BA796C9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95280-768A-4F36-9CB9-D0C39151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CB1B6-3302-43EA-9434-285A16D5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BB422-E0EE-4B5E-B425-5A58EB6C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9CCBC-3F1A-4EE1-B7E1-68D8834D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72FEB-A31B-48BD-9F14-1D28A9DB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BA99D-D4EC-4D43-8580-A69A9168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DE9FF-5260-40A3-B844-F9C00DE0CC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3C72-B40F-4DDA-93D5-6D8E387C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514440" y="5349960"/>
            <a:ext cx="8629560" cy="324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676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7.11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8229240" y="6473520"/>
            <a:ext cx="757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93F15F2-369C-42C8-A09B-791EBE13D7EE}" type="slidenum"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lnSpc>
                <a:spcPct val="10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25800" indent="0">
              <a:lnSpc>
                <a:spcPct val="10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25800" indent="-32580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25800" indent="-32580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25800" indent="-32580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25800" indent="-32580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25800" indent="-32580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25800" indent="-32580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7.11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36DE052-5811-4531-B832-117771978115}" type="slidenum"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320" y="456840"/>
            <a:ext cx="86850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41893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0120" indent="0">
              <a:lnSpc>
                <a:spcPct val="10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40120" indent="-24012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40120" indent="-24012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40120" indent="-24012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40120" indent="-24012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40120" indent="-24012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40120" indent="-24012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7.11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7320F78-7D0D-4B19-9D4B-B1DAEFFE322F}" type="slidenum"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7.11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3377970-5CA3-4A0F-AB70-67E523676B6F}" type="slidenum"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lnSpc>
                <a:spcPct val="10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1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320" y="456840"/>
            <a:ext cx="86850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7.11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0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BA14AC8-FDA1-4B21-92AE-41975D1EAC4E}" type="slidenum"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lnSpc>
                <a:spcPct val="10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29040" indent="-32904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Line 1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1040" y="-5013360"/>
            <a:ext cx="3824280" cy="118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25800" indent="0">
              <a:lnSpc>
                <a:spcPct val="10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25800" indent="-32580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25800" indent="-32580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25800" indent="-32580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25800" indent="-32580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25800" indent="-32580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25800" indent="-32580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1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514440" y="5848200"/>
            <a:ext cx="8629560" cy="3240"/>
          </a:xfrm>
          <a:prstGeom prst="line">
            <a:avLst/>
          </a:prstGeom>
          <a:ln w="9360">
            <a:solidFill>
              <a:srgbClr val="f0a22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67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609120"/>
            <a:ext cx="3006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202320" indent="-20232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202320" indent="-20232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202320" indent="-20232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2320" indent="-20232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2320" indent="-20232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2320" indent="-202320">
              <a:lnSpc>
                <a:spcPct val="10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7.11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BF0BC9E-FE29-4C41-8B70-993E8EE1C59C}" type="slidenum"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87640" y="4032360"/>
            <a:ext cx="6751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достаточно только получить знания, надо найти им приложение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ёте                  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99680" y="1285560"/>
            <a:ext cx="80010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Технология поиска работы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рофессиональные компетенции врача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Дата 3"/>
          <p:cNvSpPr/>
          <p:nvPr/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79280" y="1647720"/>
            <a:ext cx="6913800" cy="4983120"/>
          </a:xfrm>
          <a:prstGeom prst="rect">
            <a:avLst/>
          </a:prstGeom>
          <a:ln w="0">
            <a:noFill/>
          </a:ln>
        </p:spPr>
      </p:pic>
      <p:sp>
        <p:nvSpPr>
          <p:cNvPr id="364" name="TextBox 4"/>
          <p:cNvSpPr/>
          <p:nvPr/>
        </p:nvSpPr>
        <p:spPr>
          <a:xfrm>
            <a:off x="7093080" y="1700280"/>
            <a:ext cx="17269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етенции-должны включать набор сформированных коммуникативных навыков, особое значение имеет качество общения с людьми разных культур и националь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Колесо развития карьер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Дата 3"/>
          <p:cNvSpPr/>
          <p:nvPr/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250920" y="1108080"/>
            <a:ext cx="5400720" cy="5759280"/>
          </a:xfrm>
          <a:prstGeom prst="rect">
            <a:avLst/>
          </a:prstGeom>
          <a:ln w="0">
            <a:noFill/>
          </a:ln>
        </p:spPr>
      </p:pic>
      <p:sp>
        <p:nvSpPr>
          <p:cNvPr id="368" name="TextBox 5"/>
          <p:cNvSpPr/>
          <p:nvPr/>
        </p:nvSpPr>
        <p:spPr>
          <a:xfrm>
            <a:off x="4427640" y="1916280"/>
            <a:ext cx="649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6"/>
          <p:cNvSpPr/>
          <p:nvPr/>
        </p:nvSpPr>
        <p:spPr>
          <a:xfrm>
            <a:off x="3946680" y="1814400"/>
            <a:ext cx="1704960" cy="4525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и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1835280" y="1197000"/>
            <a:ext cx="18000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ни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4427640" y="3573360"/>
            <a:ext cx="1224000" cy="432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ладение технологи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9"/>
          <p:cNvSpPr/>
          <p:nvPr/>
        </p:nvSpPr>
        <p:spPr>
          <a:xfrm>
            <a:off x="3946680" y="5300640"/>
            <a:ext cx="1417320" cy="5047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ени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2050920" y="5979960"/>
            <a:ext cx="1800360" cy="4636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й и жизненный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12"/>
          <p:cNvSpPr/>
          <p:nvPr/>
        </p:nvSpPr>
        <p:spPr>
          <a:xfrm>
            <a:off x="468360" y="5229360"/>
            <a:ext cx="1224000" cy="360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па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13"/>
          <p:cNvSpPr/>
          <p:nvPr/>
        </p:nvSpPr>
        <p:spPr>
          <a:xfrm>
            <a:off x="351000" y="1830240"/>
            <a:ext cx="1628640" cy="5907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ое и лич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4"/>
          <p:cNvSpPr/>
          <p:nvPr/>
        </p:nvSpPr>
        <p:spPr>
          <a:xfrm>
            <a:off x="287280" y="3557520"/>
            <a:ext cx="1260360" cy="447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ссия и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5"/>
          <p:cNvSpPr/>
          <p:nvPr/>
        </p:nvSpPr>
        <p:spPr>
          <a:xfrm>
            <a:off x="5940360" y="2016000"/>
            <a:ext cx="273528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позиции, где сейчас находится специа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да он собирается прий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е шаги ему нужно сделать, чтобы попасть в конечную точ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"/>
          <p:cNvSpPr/>
          <p:nvPr/>
        </p:nvSpPr>
        <p:spPr>
          <a:xfrm>
            <a:off x="1728720" y="765000"/>
            <a:ext cx="3311640" cy="792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рь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"/>
          <p:cNvSpPr/>
          <p:nvPr/>
        </p:nvSpPr>
        <p:spPr>
          <a:xfrm>
            <a:off x="684360" y="2565360"/>
            <a:ext cx="2881080" cy="100800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ртик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3"/>
          <p:cNvSpPr/>
          <p:nvPr/>
        </p:nvSpPr>
        <p:spPr>
          <a:xfrm>
            <a:off x="4716360" y="2565360"/>
            <a:ext cx="3167280" cy="100800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ризонт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755640" y="4076640"/>
            <a:ext cx="2736720" cy="1081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то должностной ро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4859280" y="4076640"/>
            <a:ext cx="3025800" cy="1081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ст профессион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сте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571680" y="1857240"/>
          <a:ext cx="8138880" cy="4430880"/>
        </p:xfrm>
        <a:graphic>
          <a:graphicData uri="http://schemas.openxmlformats.org/drawingml/2006/table">
            <a:tbl>
              <a:tblPr/>
              <a:tblGrid>
                <a:gridCol w="4106520"/>
                <a:gridCol w="4032360"/>
              </a:tblGrid>
              <a:tr h="978120">
                <a:tc>
                  <a:txBody>
                    <a:bodyPr lIns="90000" rIns="90000" tIns="63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притяз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3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ь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63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иже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будет большого роста вертикальной карьеры (повышение в должност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63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ыше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будет большого роста горизонтальной карьеры (повышения мастерства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63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стич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дет обеспечен рост вертикальной и горизонтальной карье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" name="Text Box 32"/>
          <p:cNvSpPr/>
          <p:nvPr/>
        </p:nvSpPr>
        <p:spPr>
          <a:xfrm>
            <a:off x="385920" y="360360"/>
            <a:ext cx="8686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Уровень притязаний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и карь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130320" y="4968720"/>
            <a:ext cx="84596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80"/>
                </a:solidFill>
                <a:latin typeface="Arial"/>
              </a:rPr>
              <a:t>Желаем успех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392040" y="2160720"/>
            <a:ext cx="7380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80"/>
                </a:solidFill>
                <a:latin typeface="Arial"/>
              </a:rPr>
              <a:t>Надеемся наши рекомендации помогут Вам в поиске работ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213840"/>
            <a:ext cx="51670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Активный поиск работ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216000" y="1744560"/>
            <a:ext cx="82152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это продуманная система предпринимаемых  Вами мер по трудоустрой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2378160" y="3916440"/>
            <a:ext cx="3744720" cy="720720"/>
          </a:xfrm>
          <a:prstGeom prst="rect">
            <a:avLst/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ктивный поиск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74520" y="5500800"/>
            <a:ext cx="2808360" cy="792000"/>
          </a:xfrm>
          <a:prstGeom prst="rect">
            <a:avLst/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бор и оц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4322880" y="5284800"/>
            <a:ext cx="4176720" cy="1225440"/>
          </a:xfrm>
          <a:prstGeom prst="rect">
            <a:avLst/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ланирование и реа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меченного плана пои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4394160" y="2620800"/>
            <a:ext cx="3600360" cy="648000"/>
          </a:xfrm>
          <a:prstGeom prst="rect">
            <a:avLst/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зучение рынка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90520" y="2692440"/>
            <a:ext cx="2521080" cy="576360"/>
          </a:xfrm>
          <a:prstGeom prst="rect">
            <a:avLst/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амоп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8"/>
          <p:cNvSpPr/>
          <p:nvPr/>
        </p:nvSpPr>
        <p:spPr>
          <a:xfrm flipV="1">
            <a:off x="5330880" y="3340080"/>
            <a:ext cx="863640" cy="434880"/>
          </a:xfrm>
          <a:prstGeom prst="line">
            <a:avLst/>
          </a:prstGeom>
          <a:ln cap="sq" w="698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9"/>
          <p:cNvSpPr/>
          <p:nvPr/>
        </p:nvSpPr>
        <p:spPr>
          <a:xfrm flipH="1" flipV="1">
            <a:off x="2015640" y="3340080"/>
            <a:ext cx="723960" cy="434880"/>
          </a:xfrm>
          <a:prstGeom prst="line">
            <a:avLst/>
          </a:prstGeom>
          <a:ln cap="sq" w="698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0"/>
          <p:cNvSpPr/>
          <p:nvPr/>
        </p:nvSpPr>
        <p:spPr>
          <a:xfrm>
            <a:off x="5402160" y="4708440"/>
            <a:ext cx="1943280" cy="505080"/>
          </a:xfrm>
          <a:prstGeom prst="line">
            <a:avLst/>
          </a:prstGeom>
          <a:ln cap="sq" w="698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1"/>
          <p:cNvSpPr/>
          <p:nvPr/>
        </p:nvSpPr>
        <p:spPr>
          <a:xfrm flipH="1">
            <a:off x="1296720" y="4708440"/>
            <a:ext cx="1514520" cy="720720"/>
          </a:xfrm>
          <a:prstGeom prst="line">
            <a:avLst/>
          </a:prstGeom>
          <a:ln cap="sq" w="698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146160" y="388800"/>
            <a:ext cx="770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6868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Medium"/>
              </a:rPr>
              <a:t>РЫНОК ТРУДА ГОРОДА </a:t>
            </a:r>
            <a:br>
              <a:rPr sz="3600"/>
            </a:br>
            <a:r>
              <a:rPr b="1" i="1" lang="ru-RU" sz="3600" spc="-1" strike="noStrike">
                <a:solidFill>
                  <a:srgbClr val="4e3b30"/>
                </a:solidFill>
                <a:latin typeface="Franklin Gothic Medium"/>
              </a:rPr>
              <a:t>КРАСНОДАР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1857240" y="1714680"/>
            <a:ext cx="5357880" cy="47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3920"/>
            <a:ext cx="821520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Franklin Gothic Medium"/>
              </a:rPr>
              <a:t>ЗДРАВООХРАНЕНИЕ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4932360" y="2160720"/>
            <a:ext cx="27716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buClr>
                <a:srgbClr val="f0a22e"/>
              </a:buClr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Вра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450 вакан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0a22e"/>
              </a:buClr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Медицинская сестра</a:t>
            </a:r>
            <a:br>
              <a:rPr sz="2000"/>
            </a:b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           254 вакан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f0a22e"/>
              </a:buClr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Провизор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35 вакан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647640" y="1800360"/>
            <a:ext cx="30956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169920"/>
            <a:ext cx="8686800" cy="14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АМОПРЕЗЕНТАЦИЯ —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оздание своег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оложительного имиджа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127080" y="2205000"/>
            <a:ext cx="1727280" cy="720720"/>
          </a:xfrm>
          <a:prstGeom prst="rect">
            <a:avLst/>
          </a:prstGeom>
          <a:solidFill>
            <a:srgbClr val="00ffcc"/>
          </a:solidFill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же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6753240" y="2349360"/>
            <a:ext cx="1727280" cy="720720"/>
          </a:xfrm>
          <a:prstGeom prst="rect">
            <a:avLst/>
          </a:prstGeom>
          <a:solidFill>
            <a:srgbClr val="00ffcc"/>
          </a:solidFill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ми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3384720" y="2232000"/>
            <a:ext cx="1726920" cy="720720"/>
          </a:xfrm>
          <a:prstGeom prst="rect">
            <a:avLst/>
          </a:prstGeom>
          <a:solidFill>
            <a:srgbClr val="00ffcc"/>
          </a:solidFill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са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6480000" y="5616720"/>
            <a:ext cx="2087640" cy="936360"/>
          </a:xfrm>
          <a:prstGeom prst="rect">
            <a:avLst/>
          </a:prstGeom>
          <a:solidFill>
            <a:srgbClr val="00ffcc"/>
          </a:solidFill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умение держ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дистан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55440" y="5688000"/>
            <a:ext cx="2536920" cy="936720"/>
          </a:xfrm>
          <a:prstGeom prst="rect">
            <a:avLst/>
          </a:prstGeom>
          <a:solidFill>
            <a:srgbClr val="00ffcc"/>
          </a:solidFill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аккуратна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оответству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итуации одеж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440160" y="5662440"/>
            <a:ext cx="1958760" cy="960480"/>
          </a:xfrm>
          <a:prstGeom prst="rect">
            <a:avLst/>
          </a:prstGeom>
          <a:solidFill>
            <a:srgbClr val="00ffcc"/>
          </a:solidFill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грамотна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уважит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р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503280" y="1711440"/>
            <a:ext cx="7343640" cy="1440"/>
          </a:xfrm>
          <a:prstGeom prst="line">
            <a:avLst/>
          </a:prstGeom>
          <a:ln cap="sq"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990720" y="1728720"/>
            <a:ext cx="522000" cy="478080"/>
          </a:xfrm>
          <a:prstGeom prst="line">
            <a:avLst/>
          </a:prstGeom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7199280" y="1728720"/>
            <a:ext cx="417600" cy="622440"/>
          </a:xfrm>
          <a:prstGeom prst="line">
            <a:avLst/>
          </a:prstGeom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4232160" y="1711440"/>
            <a:ext cx="1800" cy="566640"/>
          </a:xfrm>
          <a:prstGeom prst="line">
            <a:avLst/>
          </a:prstGeom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2"/>
          <p:cNvSpPr/>
          <p:nvPr/>
        </p:nvSpPr>
        <p:spPr>
          <a:xfrm flipH="1">
            <a:off x="1222200" y="1711440"/>
            <a:ext cx="1298880" cy="3919320"/>
          </a:xfrm>
          <a:prstGeom prst="line">
            <a:avLst/>
          </a:prstGeom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3"/>
          <p:cNvSpPr/>
          <p:nvPr/>
        </p:nvSpPr>
        <p:spPr>
          <a:xfrm>
            <a:off x="6119640" y="1728720"/>
            <a:ext cx="1497240" cy="3791160"/>
          </a:xfrm>
          <a:prstGeom prst="line">
            <a:avLst/>
          </a:prstGeom>
          <a:ln cap="sq"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4" descr=""/>
          <p:cNvPicPr/>
          <p:nvPr/>
        </p:nvPicPr>
        <p:blipFill>
          <a:blip r:embed="rId1"/>
          <a:stretch/>
        </p:blipFill>
        <p:spPr>
          <a:xfrm>
            <a:off x="2303640" y="3070080"/>
            <a:ext cx="3816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280" y="457200"/>
            <a:ext cx="89186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ranklin Gothic Book"/>
              </a:rPr>
              <a:t>Успешное трудоустройство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838080" y="2160720"/>
            <a:ext cx="3219480" cy="1434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4967280" y="2160720"/>
            <a:ext cx="3240000" cy="13665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3"/>
          <a:stretch/>
        </p:blipFill>
        <p:spPr>
          <a:xfrm>
            <a:off x="1079640" y="3959280"/>
            <a:ext cx="2736720" cy="1081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"/>
          <p:cNvPicPr/>
          <p:nvPr/>
        </p:nvPicPr>
        <p:blipFill>
          <a:blip r:embed="rId4"/>
          <a:stretch/>
        </p:blipFill>
        <p:spPr>
          <a:xfrm>
            <a:off x="5326200" y="3959280"/>
            <a:ext cx="30258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" descr=""/>
          <p:cNvPicPr/>
          <p:nvPr/>
        </p:nvPicPr>
        <p:blipFill>
          <a:blip r:embed="rId1"/>
          <a:stretch/>
        </p:blipFill>
        <p:spPr>
          <a:xfrm>
            <a:off x="6408720" y="3024360"/>
            <a:ext cx="2448000" cy="2016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6360" y="-219240"/>
            <a:ext cx="7415280" cy="22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шибки соискателей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 собеседован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36360" y="24768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0" y="-3519360"/>
            <a:ext cx="8999640" cy="138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трах или синдром «застенчивого студента». Неуверенное поведение портит впечатление о вас как специалисте и сводит шансы на прохождение собеседования к ну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Неподготовлен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Перевод интервью в беседу по душ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Подавленность и плохое самочувствие. Если 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чувствовали себя плохо, договоритесь перене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тервью и расскажите о причинах потенци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ботодате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Вульгарное поведение не оценит ни один работодатель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" descr=""/>
          <p:cNvPicPr/>
          <p:nvPr/>
        </p:nvPicPr>
        <p:blipFill>
          <a:blip r:embed="rId1"/>
          <a:stretch/>
        </p:blipFill>
        <p:spPr>
          <a:xfrm>
            <a:off x="210960" y="2303640"/>
            <a:ext cx="4540320" cy="37432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324000"/>
            <a:ext cx="8686800" cy="11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spcBef>
                <a:spcPts val="1199"/>
              </a:spcBef>
              <a:spcAft>
                <a:spcPts val="10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пространенные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шибки соискателя: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751280" y="1295280"/>
            <a:ext cx="403236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поз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енадлежащий внешний ви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Явка с сопровождающим, например с мамой или пар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ует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олтлив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рань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ритика бывших колл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злишняя открове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ысокомерие и завышенное самом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твет на личный звонок во время интерв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503280" y="1655640"/>
            <a:ext cx="8351640" cy="5010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360" bIns="45000" anchor="t">
            <a:noAutofit/>
          </a:bodyPr>
          <a:p>
            <a:pPr marL="343080" indent="-341640" algn="ctr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Courier New"/>
              </a:rPr>
              <a:t>Содержит описание условий труда, прав и обязанностей работника, необходимых знаний, умений и навыков, профессионально важных качеств, а также противопоказаний по состоянию здоровья.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Courier New"/>
              </a:rPr>
              <a:t>Важной составляющей профессиограммы является психограмма — характеристика мотивационной, волевой и эмоциональной сферы специалиста. Психограмма — психологический портрет профессии, представленный группой психологических функций, актуализируемых конкретной професс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10648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Courier New"/>
              </a:rPr>
              <a:t>Профессиограмма (описание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Courier New"/>
              </a:rPr>
              <a:t>особенностей конкретно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Courier New"/>
              </a:rPr>
              <a:t>профессии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_1101049742</cp:lastModifiedBy>
  <dcterms:modified xsi:type="dcterms:W3CDTF">2020-11-30T12:45:08Z</dcterms:modified>
  <cp:revision>8</cp:revision>
  <dc:subject/>
  <dc:title>Недостаточно только получить знания, надо найти им приложение. Гёте                               </dc:title>
</cp:coreProperties>
</file>