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5E6-1308-4560-866C-2A00033F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EDB-E809-46A1-99E8-C883B4F2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919-CF1F-4EFE-916F-7278652B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E6C-DE3F-4100-B71F-7B12FC96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3DE-69AE-4B07-9222-DF653B91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3CD-CE1B-4820-881E-9471A8F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645-8EDC-4EAD-AC16-B959D2E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57F-725F-4EB8-B6C1-AECEA83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177-0477-4D73-B146-0C0A0A01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D5C-FB84-43FB-A9C8-0709D18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85D-D35C-45BF-8F21-30C5FCD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69C-5132-4FAE-8729-EA6619DD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FFAD-E50A-42CD-9DEE-2F751F61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CTURE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3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DAGOGICS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562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500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Description: Description: Description: Description: Description: Description: Description: Description: http://i53.tinypic.com/2iswgnm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Description: Description: Description: Description: Description: Description: Description: Description: http://www.jkps.edu.in/images/unique-pedagogy-at-JKPS.jpg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Description: Description: Description: Description: Description: http://www.eecs.uottawa.ca/~wslee/SITEimages/PianoPedagog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me: Introduction to Pedagogics Cour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   The Concept of Pedagogi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   Main Categories of Pedagog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   Pedagogical science and Pedagogical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   System of Pedagogical Sc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   Pedagogics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escription: Description: Description: Description: Description: Description: Description: Description: Description: The Social Pedagogy Tree as a symbol for social pedagogy - copyright by ThemPra 2009"/>
          <p:cNvPicPr/>
          <p:nvPr/>
        </p:nvPicPr>
        <p:blipFill>
          <a:blip r:embed="rId1"/>
          <a:stretch/>
        </p:blipFill>
        <p:spPr>
          <a:xfrm>
            <a:off x="1219320" y="0"/>
            <a:ext cx="700236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Description: Description: Description: Description: Description: http://dsh.cs.washington.edu/info/icons/12mediate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Description: Description: Description: Description: Description: Description: Description: Description: Description: diamond model outlining the aims of social pedagogy - copyright by ThemPra 2009"/>
          <p:cNvPicPr/>
          <p:nvPr/>
        </p:nvPicPr>
        <p:blipFill>
          <a:blip r:embed="rId1"/>
          <a:stretch/>
        </p:blipFill>
        <p:spPr>
          <a:xfrm>
            <a:off x="1143000" y="19080"/>
            <a:ext cx="762012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escription: Description: Description: Description: Description: Description: Description: Description: The Common Third - graphic by G. Eichsteller"/>
          <p:cNvPicPr/>
          <p:nvPr/>
        </p:nvPicPr>
        <p:blipFill>
          <a:blip r:embed="rId1"/>
          <a:stretch/>
        </p:blipFill>
        <p:spPr>
          <a:xfrm>
            <a:off x="1676520" y="0"/>
            <a:ext cx="57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escription: Description: Description: Description: Description: Description: Description: Description: learning zone model according to Senninger, T. (2000). Abenteuer leiten - in Abenteuern lernen. Munich: Ökotopia Verlag."/>
          <p:cNvPicPr/>
          <p:nvPr/>
        </p:nvPicPr>
        <p:blipFill>
          <a:blip r:embed="rId1"/>
          <a:stretch/>
        </p:blipFill>
        <p:spPr>
          <a:xfrm>
            <a:off x="685800" y="154080"/>
            <a:ext cx="693432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246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14:22:14Z</dcterms:created>
  <dc:creator>АиЛ</dc:creator>
  <dc:description/>
  <dc:language>en-US</dc:language>
  <cp:lastModifiedBy>АиЛ</cp:lastModifiedBy>
  <dcterms:modified xsi:type="dcterms:W3CDTF">2020-09-07T14:30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