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DFC-3CDD-486C-80E7-5CF8A1AD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1FE-9F99-40D0-B069-5A618DE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66A-9B54-43DB-AB1F-63931C2C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8C3-64E8-4E1E-A4AC-21C38FCA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E66-A1FC-4F2D-BD17-99EE896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016-9BEF-481C-ACD3-929F7407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01A-9964-42B0-996C-E36D58C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807-6B3C-43A1-934B-443F136A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F16-F130-4079-A6D0-7C71EBD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A8E-F397-4E56-8951-3551675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806-AE74-470E-BA03-672BF6E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6ED-7F7E-4BBE-B5AB-269A7EE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40C-3661-43C7-BBCE-8DB1F5C8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ES 3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Time of Troubles»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ra of Peter's reforms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ssia in the XVIII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Syno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dvisory body, supervising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y of Nystad, 1721 A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ace agreement of the Great Northern War between Russia and Swe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Ranks, 1722 A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order of precedence, which directed that precedence should be determined by merit and service to the Empe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reme Privy Counci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isory body of selected statesmen, trustees of Peter I which supported Catherine I at the throne and tried to control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 Menchikov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eld Marechal, president of the Supreme Privy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Ioanovna (r.1730-1740 AD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ghter of Ivan V, countess of Courland, Russian Em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 Johann von Biron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vorite of the Empress A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I (r.1741- 1761 AD)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ughter of Peter I, Empress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Year’s War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an-European War (1756-1763 AD) between Prussia and England from the first side and Russia, Austria and France – from another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ey Bestuzhev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plomat and vice-chancellor of Elizabeth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lyan Pugachev -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ader of the peasants` uprising who assumed leadership in the name of the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ssassinated Tsar Peter 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. TIME OF TROUB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eriod of Turmoil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Troubles, 1606-1610 A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iod of instability resulting to political crisis of central authorities, 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vention, social and economic disorganisation, robbery and struggle f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is Godunov (r.1598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5 AD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non-Rurikid tsar, founder of a short-time Godunov’s dynasty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-Dmytry I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retired monk Grigiry Otrepiev, who adopted Catholicism and seize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try II of Russia (r.1605-1606 AD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ssian throne under the name of Dmitry II, son of Ivan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ily IV Shuysk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.1606-1610 AD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resentative of the powerful boyar family of Shuysky, who proclaimed himself a tsar after extermination of Dmitry I and started the Time o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ar’s Dum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isory body, composed of 7 most powerful boyars, sometimes their activity in 1610-1612 AD is referred as the 7- Boyars’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le of Klushino, 1610 A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uccessful attempt of Vasily IV to stop the Poles, which resulted in his ab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-Dmitry II, Wladislaw IV Vasa, etc.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fferent pretenders to the Russian th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 Dmitry Pozharsky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rikid prince &amp; famous general, participant of the First people's volunteer army (Ryazan), military leader of the Second people's volunteer army (Nizhny Novgorod), who captured the Polish garrison of Krem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zma Min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t of Nizhny Novgorod, inspirer and organiser of the Second people's volunteer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. MOSCOW KINGDOM UNDER THE ROMANOV DYNASTY XVII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hael Romanov (r.1613 – 1645 AD)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st Romanov tsar elected to the throne by a national assembly. Reigned under influence of his father Patriarch Filaret (Feodor) Romano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ce of Stolbovo (1617 AD) and the Tru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ace agreements with Poland and Sweden which ceased the international intervention i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an Susanin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gendary peasant who guided the special Polish troop intended to kill the pretender Michael Romanov to the forests and perished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ey I (r.1645 –1676 AD) the Calmest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n of Michael, who gained the most part of lost Russian cities from Poland and joined Ukraine to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bornoye Ulozheniye, 1649 AD 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w code which was in force till 1845AD.Its provisions established the serfdom i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t Riot (1648 AD), Copper Riot (1662 AD), Moscow Uprising (1682 AD)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ople’s uprisings against central authorities which permitted to call the XVII century as the «Rebellious Century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an (Sten’ka) Raz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sack, leader of the greatest people`s uprising in the XVII century on the south and southeast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ropolitan (Patriarch) Nikon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ief minister of Alexey I in 1651-1658 AD, inspirer of religious reformation and initiator of schism of the Russian Orthodox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 Believers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ismatics, proponents of religious rituals being in force before Nikon’s re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priest Awak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iritual leader of the Old Believers and Nikon’s ideological rival, murdered on fire in 1682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gdan Khmelnitsk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tman (commander) of Ukraine Cossacks who organised the uprising vs. Poland and appealed to Alexey for Ukraine protecto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y of Andrusovo (1667 AD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al agreement of the Russo-Polish war, by which Russia received the Left- Bank Ukraine, Kiev and Smolensk. Start of reintegration of the Russian 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anasy Ordin-Nashchokin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ssian minister and brilliant diplomat, head of the Russian embassy at Andrus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odor III (r.1676-1682 AD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exey`s heir, prohibited the system of «place priority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amon Matveye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exey’s and Feodor’s chief minister, supported Naryshkin family in the struggle for power, murdered during the Moscow uprising of 1682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ia Alexeyevna (r.1682-1689 AD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ganiser of the Moscow uprising, regent of Russia during Peter’s child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SSIAN EMPIRE XVIII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I (r.1682–1725 AD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n of Alexey I, first Emperor of Russia who bridged the East-West gap amd made Russia the European dominan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avin Rebell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ssacks rebellion on Don river in 1707-1708 AD reacting on the Cossacks liberties 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 Embass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egation of Russian statesmen where Peter I voyaged under incognito looking for coalition the European mon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Northern War,1700 – 1721 A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flict between northern European countries on the dominance over the Bal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le of Narva, 1700 AD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tonishing defeat of Russian army by Swe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. Petersbourg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t post on Baltic coastal, was founded in 1703 AD and became capital in 1712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tle of Poltava, 1709 AD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sive foot battle of the Great Northern War, the Swedes f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uth campaign, 1710-1711 AD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successful campaign of Peter I against Turkey where Russian army was surrounded and had to pay con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ngut (1714 AD) and Grengam (1720 AD) - sea battles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wo main Russian victories in sea battles of the Great Northern w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of collegia, 1717 AD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stem of 9 ministries that replaced prika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8T09:32:44Z</dcterms:created>
  <dc:creator>АиЛ</dc:creator>
  <dc:description/>
  <dc:language>en-US</dc:language>
  <cp:lastModifiedBy>АиЛ</cp:lastModifiedBy>
  <dcterms:modified xsi:type="dcterms:W3CDTF">2020-09-08T09:47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