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D573-F66B-47BE-8681-FE073C9D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684-15F6-4C13-9173-5B27C8EA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7A51-5E8D-4844-810F-3D214F44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9D63-3186-4018-BBC1-78EF0B02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C3DC-3ED3-4816-9678-63FED01A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F2D-578C-4194-9FFF-09385562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1355-E3EE-4C5A-8B84-82B1DE4F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C24-6DD9-44A9-BD89-9A1B9AF0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1C9-E474-4E9E-A13C-3FE27392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1579-358B-4C7C-ACED-780E69ED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A12E-32CD-40BC-84D7-F8756414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59DF-5A19-4C78-9C65-1D9FE97A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F750-367A-493D-8C1C-23E4683F3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CTURES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tion of the Moscow state.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ssia during the reign of Ivan the Terr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. FORMATION OF THE MOSCOW STAT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47 A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ndation of Mosc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Ivan I Kalita (r.1325- 1340 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mitry (r.1359 – 1389 AD) of 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ulikovo battle, 1380 AD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isive battle between joined Russian army leaded by Moscow and Golden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rde which plays a significant role in the Russian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an III the Great (r. 1462–1505 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hmed Khan (r.1465-1481 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eat standing on Ugra river in 1480 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debnik, 1497 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phia Palaeolog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ofei (Philotheus of Pskov) 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gumen of the Yelizarov Monastery in Pskov in the XVI century. H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edited with authorship of the Third Rome prophe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I. MOSCOW TSARDOM UNDER RURIK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sily III (r.1505 –1533 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na Glinskaya (r.1533-1538 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an IV (r. 1547 –1584 AD) the Terr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debnik of 1550 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omakh’s C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uysky fam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uratov-Belsky Feodor I (r. 1584 – 1598 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7T15:13:02Z</dcterms:created>
  <dc:creator>АиЛ</dc:creator>
  <dc:description/>
  <dc:language>en-US</dc:language>
  <cp:lastModifiedBy>АиЛ</cp:lastModifiedBy>
  <dcterms:modified xsi:type="dcterms:W3CDTF">2020-09-08T09:2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