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B218-4C1A-4FB4-AE83-169FDFD28C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5B12-3BCD-4E06-B2D8-5C5736A9BF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18B-B03E-4521-8911-22918DB6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981-D511-4D7D-AB2C-F8CADD96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702-725B-4870-812C-C1A9D638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A43-B872-4BF6-B6C5-2142498D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962-0BC8-4630-A251-63215A3F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D3E-4534-40D5-A68A-654679A0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619-2B70-4ACC-BCCF-CD4E1FE5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931-6744-4108-BA9E-CABF867A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127-1790-46A1-9545-D4ACB9A3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8F3-453A-4CE3-A597-D144617C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552-7CED-4E0A-A7E0-EAF7E7B3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271-31CD-4E19-8F1A-0239E7A7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D437-AA49-470E-BE85-6F538B6FD1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345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8398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КУ КК ЦЗН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машевского райо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55480" y="183960"/>
            <a:ext cx="834552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деальная схема собеседования, которую стоит планировать, выглядит так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99880" y="3359160"/>
            <a:ext cx="88567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раткий рассказ о себе, четко отрепетированный дома перед зеркалом (не более 5 мину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тветы на вопросы работода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Активная часть ваших вопросов к работодате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Завершение интервью в ключе: «Почему вы должны сделать предложение именно мне?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бсуждение компенсаций вашего труда и соцпак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" descr=""/>
          <p:cNvPicPr/>
          <p:nvPr/>
        </p:nvPicPr>
        <p:blipFill>
          <a:blip r:embed="rId5"/>
          <a:stretch/>
        </p:blipFill>
        <p:spPr>
          <a:xfrm>
            <a:off x="1957320" y="1176480"/>
            <a:ext cx="4516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34552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вью должно убедить работодателя принять именно вас, поэтому проследите, чтобы в вашем плане собеседования прозвучали три главных козыря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99880" y="1711440"/>
            <a:ext cx="88567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аши профессиональные компетенции подходят под требования вакансии, и вы готовы учиться и развива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У вас есть необходимые личностные качества и сильная внутренняя мотива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Уровень оплаты труда соответствует вашим запросам, ваши карьерные планы – схемам продвижения по карьерной лестни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34552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ичные вопросы, задаваемые на собеседовании: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99880" y="1711440"/>
            <a:ext cx="88567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 </a:t>
            </a: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сскажите, чем вы занимались на последнем месте работы? (если нет опыта работы — в процессе стажировки, на практике)».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.Что входило в ваши обязаннос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Прохождение стажировок, повышения квалифик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34552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ти работу без опыта легче, чем кажется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елайте акцент на знаниях и способностях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9880" y="1711440"/>
            <a:ext cx="88567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Что показать, чтобы вас заметил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энтузиаз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энергичност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тветственност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знания умение схватывать на ле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и, которые мешают получить интересную работ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завышенные требова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опозда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неуместная одежда на собеседован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жарго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зажатость или вульгарное поведени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чрезмерная жестикуляц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8345520" cy="20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ем удачи в реализации поставленных целей!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31880" y="2548080"/>
            <a:ext cx="842472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e69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345520" cy="22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«Как устроиться на работу студентам и молодым специалистам».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767960"/>
            <a:ext cx="8398080" cy="465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пециалист,  инспектор отдела трудоустройст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ЦЗН Тимашевского райо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alibri"/>
              </a:rPr>
              <a:t>Чаус Лариса Викто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345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8398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с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зья, знакомые, родственники, коллеги, одноклассники, однокурсник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рупные порталы поиска работы: «Работа в России»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ubzan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ращение в государственную службу занятости насе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345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юме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1825200"/>
            <a:ext cx="8398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ое запомнит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юме не должно быть ни коротким, ни длинным, не должно содержать лишней информации, грамматических и смысловых ошибок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Объект 3"/>
          <p:cNvGraphicFramePr/>
          <p:nvPr/>
        </p:nvGraphicFramePr>
        <p:xfrm>
          <a:off x="9725040" y="185580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25040" y="185580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Прямоугольник 2"/>
          <p:cNvSpPr/>
          <p:nvPr/>
        </p:nvSpPr>
        <p:spPr>
          <a:xfrm>
            <a:off x="789120" y="146160"/>
            <a:ext cx="764532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ОБРАЗЕЦ РЕЗЮМ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Фамилия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(обязательно) 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Таблеткин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Имя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(обязательно)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Андрей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Отчество    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Юрье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Должность  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Готовность к командировкам (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отметить галкой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Желаемая зарплата   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100 000</a:t>
            </a:r>
            <a:r>
              <a:rPr b="1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 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рублей                       </a:t>
            </a:r>
            <a:r>
              <a:rPr b="1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Занятость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Полная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фот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Электронная почта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(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обязательно)   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График работы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Полный ден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Телефон для связи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(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обязательно)   000-000-00-0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Viber  Whatsapp  Tele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Личная информац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Город проживания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Краснодар 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Переезд 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Невозм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Гражданство      </a:t>
            </a:r>
            <a:r>
              <a:rPr b="1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Россия                   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Пол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Мужской/Женск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Дата рождения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 31.09.1981        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Семейное положение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   </a:t>
            </a:r>
            <a:r>
              <a:rPr b="0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Холост / Не замуже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Есть </a:t>
            </a:r>
            <a:r>
              <a:rPr b="1" lang="ru-RU" sz="1000" spc="-1" strike="noStrike">
                <a:solidFill>
                  <a:srgbClr val="ffff00"/>
                </a:solidFill>
                <a:latin typeface="Calibri"/>
                <a:ea typeface="Calibri"/>
              </a:rPr>
              <a:t>де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Образовани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Учебное заведение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ФГБОУ ВО «Кубанский государственный медицинский университет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Факультет  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Лечебный    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              </a:t>
            </a: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Специальность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Лечебное дел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а обучения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Очная   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             </a:t>
            </a: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Год окончания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  202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Опыт работ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Организация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ГБУЗ РБ ГБ    г. Краснодар                             </a:t>
            </a: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лжность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Врач-хирург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риод работы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06.2005             08.200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лжностные обязанности и достижения       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Амбулаторный прием, работа в перевязочном кабинете, дежурства в стационаре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Организация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ГБУЗ РБ ГКБ № 13 г. Уфа                           </a:t>
            </a: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лжность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Врач-хирург, врач-эндосопис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риод работы 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09.2007</a:t>
            </a:r>
            <a:r>
              <a:rPr b="1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по настоящее врем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лжностные обязанности и достижения      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Р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абота врачом-эндоскопистом (выполнение гастро-, колоно-, бронхоскопии с забором биопсийного материала); амбулаторный прием врача-хирурга, работа в перевязочном кабинете, дежурства в стационаре, работа врачом-хирургом в составе призывной комиссии военкомата, проведение медицинских осмотро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Работаю по настоящее время. Заведование эндоскопическим отделением, совмещение в отделе управления качеством медицинской помощи и стратегического развития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Языки    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английски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дительские права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А,В                                                      </a:t>
            </a:r>
            <a:r>
              <a:rPr b="1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наличие медицинской книжк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полнительная информация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Владение компьютером: </a:t>
            </a:r>
            <a:r>
              <a:rPr b="1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Печать, сканирование, копирование документов, Интернет, Электронная почта, Microsoft Word, Microsoft Excel, Microsoft Power Point.</a:t>
            </a:r>
            <a:r>
              <a:rPr b="1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Отсутствие вредных привычек, энергичность, инициативность, самостоятельность,  ответственность, коммуникабельность, быстрая обучаемость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Ссылки   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Ссылки на портфолио или профессиональный аккаунт в соцсетях.</a:t>
            </a:r>
            <a:r>
              <a:rPr b="1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  (</a:t>
            </a:r>
            <a:r>
              <a:rPr b="0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Каждая ссылка с новой строки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00"/>
                </a:solidFill>
                <a:latin typeface="Times New Roman"/>
                <a:ea typeface="Calibri"/>
              </a:rPr>
              <a:t>в активном поиске, согласен на получение вакансий от работодателей на email, смс, мессенджеры, звонки на телефо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6581880" y="504720"/>
            <a:ext cx="925560" cy="73512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Объект 3"/>
          <p:cNvGraphicFramePr/>
          <p:nvPr/>
        </p:nvGraphicFramePr>
        <p:xfrm>
          <a:off x="9725040" y="185580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25040" y="185580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Прямоугольник 2"/>
          <p:cNvSpPr/>
          <p:nvPr/>
        </p:nvSpPr>
        <p:spPr>
          <a:xfrm>
            <a:off x="789120" y="146160"/>
            <a:ext cx="7645320" cy="61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  <a:ea typeface="Calibri"/>
              </a:rPr>
              <a:t>ОБРАЗЕЦ РЕЗЮМ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Фамил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(обязательно)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Таблеткин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Им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(обязательно)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Андр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Отчество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Юр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Должность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Вр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Готовность к командировкам (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отметить галко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Желаемая зарплата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100 000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рублей               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Занятость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Полная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фо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Электронная почт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(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обязательно)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График работы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Полный 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Телефон для связ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(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обязательно)   000-000-00-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Viber  Whatsapp  Tele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Лич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Город проживан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Краснодар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Переезд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Невозмо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Гражданство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Россия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Пол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Мужской/Ж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Дата рожден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 31.09.1981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Семейное положени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Холост / Не заму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Есть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  <a:ea typeface="Calibri"/>
              </a:rPr>
              <a:t>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Учебное заведение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ФГБОУ ВО «Кубанский государственный медицинский университ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Факультет   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Лечебный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пециальность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Лечеб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а обучения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Очная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Год окончания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20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Языки     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англий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дительские прав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А,В                                                      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наличие медицинской кни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полнительная информация 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Владение компьютером: 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Печать, сканирование, копирование документов, Интернет, Электронная почта, Microsoft Word, Microsoft Excel, Microsoft Power Point.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Отсутствие вредных привычек, энергичность, инициативность, самостоятельность,  ответственность, коммуникабельность, быстрая обуча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Ссылки  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Ссылки на портфолио или профессиональный аккаунт в соцсетях.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  (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Каждая ссылка с новой стро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  <a:ea typeface="Calibri"/>
              </a:rPr>
              <a:t>в активном поиске, согласен на получение вакансий от работодателей на email, смс, мессенджеры, звонки на теле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7286760" y="504720"/>
            <a:ext cx="925200" cy="73512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834552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знанно или нет, выбор осуществляется с учетом трех показателей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2440" y="2168640"/>
            <a:ext cx="885672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фессионального показа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 поведенческого показа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 личностного показателя</a:t>
            </a: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834552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помните о правил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3 по 20»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2440" y="2168640"/>
            <a:ext cx="885672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</a:t>
            </a: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0 секунд – «встречают по одёжке»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.</a:t>
            </a: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0 секунд – умение слышать, слушать, разговаривать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</a:t>
            </a: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0 секунд – умение строить коммуникацию (уметь общаться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34552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е «Пять стульев»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по Н.И. Козлову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3720" y="1711440"/>
            <a:ext cx="702288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ый стул: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Я не могу управлять ни внутренними переживаниями, ни внешним выражением эмоци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торой стул: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Внутренние переживания вне моего контроля, при этом я умею управлять внешним выражением эмоций, когда внутри относительный порядо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тий стул: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Я могу полностью контролировать внешнюю подачу себя, но мой внутренний мир малоуправляе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твертый стул: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Я могу прекрасно контролировать внешние проявления моего поведения, но внутренний мир подвластен мне частичн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ый стул: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Я могу полностью контролировать как свой внутренний мир, так и свою внешнюю эмоциональную подач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5"/>
          <a:stretch/>
        </p:blipFill>
        <p:spPr>
          <a:xfrm>
            <a:off x="882720" y="1238400"/>
            <a:ext cx="1243080" cy="1242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"/>
          <p:cNvPicPr/>
          <p:nvPr/>
        </p:nvPicPr>
        <p:blipFill>
          <a:blip r:embed="rId6"/>
          <a:stretch/>
        </p:blipFill>
        <p:spPr>
          <a:xfrm>
            <a:off x="316080" y="2087640"/>
            <a:ext cx="1242720" cy="1243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"/>
          <p:cNvPicPr/>
          <p:nvPr/>
        </p:nvPicPr>
        <p:blipFill>
          <a:blip r:embed="rId7"/>
          <a:stretch/>
        </p:blipFill>
        <p:spPr>
          <a:xfrm>
            <a:off x="990720" y="3025800"/>
            <a:ext cx="1242720" cy="1243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"/>
          <p:cNvPicPr/>
          <p:nvPr/>
        </p:nvPicPr>
        <p:blipFill>
          <a:blip r:embed="rId8"/>
          <a:stretch/>
        </p:blipFill>
        <p:spPr>
          <a:xfrm>
            <a:off x="396720" y="370368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"/>
          <p:cNvPicPr/>
          <p:nvPr/>
        </p:nvPicPr>
        <p:blipFill>
          <a:blip r:embed="rId9"/>
          <a:stretch/>
        </p:blipFill>
        <p:spPr>
          <a:xfrm>
            <a:off x="874800" y="4794120"/>
            <a:ext cx="12430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9T19:35:26Z</dcterms:created>
  <dc:creator>Modenko</dc:creator>
  <dc:description/>
  <dc:language>en-US</dc:language>
  <cp:lastModifiedBy>User</cp:lastModifiedBy>
  <dcterms:modified xsi:type="dcterms:W3CDTF">2020-12-21T13:05:31Z</dcterms:modified>
  <cp:revision>36</cp:revision>
  <dc:subject/>
  <dc:title>Презентация PowerPoint</dc:title>
</cp:coreProperties>
</file>