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DA82-1A17-4D54-AFEA-4312105547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1820-833C-4DFC-9E33-3232E34CB6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8FDF-C14D-4A06-A394-A174241DE4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452B-E4E8-40D4-BE79-50533D0DE3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6172-EE5C-4EC7-BC29-AF7D5E9601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04AE-F138-4CB2-A33E-E8E18CAE40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B440-06AF-4876-848B-6B4361115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7597-531D-4001-87C0-29F83BE1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FA5A-C1E7-4BB4-B8F5-E56D371CC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51A0-68C6-461B-AB00-F137177F5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30AB-F46F-48CA-BE4B-F44FC3BD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0B51-B092-4BC5-9A07-C70C1B55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50D2-451F-4A1A-805D-BC94FA92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1D73-18D9-4454-95BA-B9CB8117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07F5-E2ED-4BF1-B2D3-57C5BD5A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90BA-4A43-4CF2-ABD4-9DB2D769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1E81-6E1D-4CFB-AD6D-CCFBC366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3E8C-E937-4851-A657-14A414FD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4F46-59CF-44E7-99AE-1D0454863B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Объект 3"/>
          <p:cNvGraphicFramePr/>
          <p:nvPr/>
        </p:nvGraphicFramePr>
        <p:xfrm>
          <a:off x="9659880" y="1881360"/>
          <a:ext cx="2033640" cy="21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9880" y="1881360"/>
                    <a:ext cx="20336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Объект 4"/>
          <p:cNvGraphicFramePr/>
          <p:nvPr/>
        </p:nvGraphicFramePr>
        <p:xfrm>
          <a:off x="9839160" y="4262400"/>
          <a:ext cx="172584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39160" y="4262400"/>
                    <a:ext cx="172584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85880" y="377640"/>
            <a:ext cx="834552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53" name="Объект 1" descr=""/>
          <p:cNvPicPr/>
          <p:nvPr/>
        </p:nvPicPr>
        <p:blipFill>
          <a:blip r:embed="rId5"/>
          <a:stretch/>
        </p:blipFill>
        <p:spPr>
          <a:xfrm>
            <a:off x="905040" y="2019240"/>
            <a:ext cx="81072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Объект 3"/>
          <p:cNvGraphicFramePr/>
          <p:nvPr/>
        </p:nvGraphicFramePr>
        <p:xfrm>
          <a:off x="9659880" y="1881360"/>
          <a:ext cx="2033640" cy="21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9880" y="1881360"/>
                    <a:ext cx="20336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Объект 4"/>
          <p:cNvGraphicFramePr/>
          <p:nvPr/>
        </p:nvGraphicFramePr>
        <p:xfrm>
          <a:off x="9839160" y="4262400"/>
          <a:ext cx="172584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39160" y="4262400"/>
                    <a:ext cx="172584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34552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активный портал службы занятости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www.kubzan.ru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0" name="Объект 8" descr=""/>
          <p:cNvPicPr/>
          <p:nvPr/>
        </p:nvPicPr>
        <p:blipFill>
          <a:blip r:embed="rId5"/>
          <a:srcRect l="13801" t="5949" r="16270" b="3160"/>
          <a:stretch/>
        </p:blipFill>
        <p:spPr>
          <a:xfrm>
            <a:off x="1044720" y="1825560"/>
            <a:ext cx="75294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Объект 3"/>
          <p:cNvGraphicFramePr/>
          <p:nvPr/>
        </p:nvGraphicFramePr>
        <p:xfrm>
          <a:off x="9659880" y="1881360"/>
          <a:ext cx="2033640" cy="21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9880" y="1881360"/>
                    <a:ext cx="20336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Объект 4"/>
          <p:cNvGraphicFramePr/>
          <p:nvPr/>
        </p:nvGraphicFramePr>
        <p:xfrm>
          <a:off x="9839160" y="4262400"/>
          <a:ext cx="172584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39160" y="4262400"/>
                    <a:ext cx="172584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81040" y="231840"/>
            <a:ext cx="8345520" cy="19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данным регистра  получателей государственных услуг в сфере занятости населения на 22  декабря 2020 года в службу занятости населения Краснодарского края заявлено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62080" y="2184480"/>
            <a:ext cx="913104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             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Всего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2346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 вакансий медицинских работников, в том числе по врачебным специальностям и вакансиям, требующим наличия высшего образования –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1595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  вакансий, по профессиям (специальностям) среднего и младшего медицинского персонала -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751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 ваканс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Объект 3"/>
          <p:cNvGraphicFramePr/>
          <p:nvPr/>
        </p:nvGraphicFramePr>
        <p:xfrm>
          <a:off x="9659880" y="1881360"/>
          <a:ext cx="2033640" cy="21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9880" y="1881360"/>
                    <a:ext cx="20336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Объект 4"/>
          <p:cNvGraphicFramePr/>
          <p:nvPr/>
        </p:nvGraphicFramePr>
        <p:xfrm>
          <a:off x="9839160" y="4262400"/>
          <a:ext cx="172584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39160" y="4262400"/>
                    <a:ext cx="172584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55480" y="183960"/>
            <a:ext cx="8345520" cy="19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22  декабря 2020 года в ГКУ КК ЦЗН Тимашевского района заявлено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62080" y="2184480"/>
            <a:ext cx="913104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- 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78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вакансий медицинских работников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врачи ультрозвуковой диагностики, врачи – анестезиологи-реаниматологи, врач - бактериолог, инфекционист, врач-кардиолог, невролог, неонатолог, оториноларинголог, стоматолог, офтальмолог, врач-педиатр, терапевт, врач-рентгенолог, врач-физиотерапевт, хирург, эндокринолог, эндоскопист, врач-травматолог-ортопед, врач-терапевт участковый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вакансий среднего медицинского персонала (медицинская сестра палатная постовая, процедурная, медицинская сестра по массажу, медицинская сестра по физиотерапии, медицинская сестра приемного отделения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Объект 3"/>
          <p:cNvGraphicFramePr/>
          <p:nvPr/>
        </p:nvGraphicFramePr>
        <p:xfrm>
          <a:off x="9659880" y="1881360"/>
          <a:ext cx="2033640" cy="21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9880" y="1881360"/>
                    <a:ext cx="20336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Объект 4"/>
          <p:cNvGraphicFramePr/>
          <p:nvPr/>
        </p:nvGraphicFramePr>
        <p:xfrm>
          <a:off x="9839160" y="4262400"/>
          <a:ext cx="172584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39160" y="4262400"/>
                    <a:ext cx="172584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34552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99880" y="665280"/>
            <a:ext cx="885672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годня в Краснодарском крае среди специалистов с высшем образованием наиболее востребован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рачи-1570 вакансий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медицинские сестры- 700 вакансий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фельдшеры- 144 ваканс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Объект 3"/>
          <p:cNvGraphicFramePr/>
          <p:nvPr/>
        </p:nvGraphicFramePr>
        <p:xfrm>
          <a:off x="9659880" y="1881360"/>
          <a:ext cx="2033640" cy="21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9880" y="1881360"/>
                    <a:ext cx="20336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Объект 4"/>
          <p:cNvGraphicFramePr/>
          <p:nvPr/>
        </p:nvGraphicFramePr>
        <p:xfrm>
          <a:off x="9839160" y="4262400"/>
          <a:ext cx="172584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39160" y="4262400"/>
                    <a:ext cx="172584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34552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ибольшая потребность у работодателей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99880" y="996480"/>
            <a:ext cx="885672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- В терпевтах </a:t>
            </a:r>
            <a:r>
              <a:rPr b="0" i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(заявлена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1</a:t>
            </a:r>
            <a:r>
              <a:rPr b="0" i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ваканси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- В педиатрах </a:t>
            </a:r>
            <a:r>
              <a:rPr b="0" i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7 </a:t>
            </a:r>
            <a:r>
              <a:rPr b="0" i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аканси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рачах скорой медицинской помощи </a:t>
            </a:r>
            <a:r>
              <a:rPr b="0" i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9</a:t>
            </a:r>
            <a:r>
              <a:rPr b="0" i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ваканси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Анестезиологах-реаниматологах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(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2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аканси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рачах ультразвуковой диагностики</a:t>
            </a:r>
            <a:r>
              <a:rPr b="1" i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4</a:t>
            </a:r>
            <a:r>
              <a:rPr b="0" i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ваканси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Неврологах </a:t>
            </a:r>
            <a:r>
              <a:rPr b="0" i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5 </a:t>
            </a:r>
            <a:r>
              <a:rPr b="0" i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аканси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Акушерах –гинекологах </a:t>
            </a:r>
            <a:r>
              <a:rPr b="0" i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3</a:t>
            </a:r>
            <a:r>
              <a:rPr b="0" i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ваканси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рачах общей практики </a:t>
            </a:r>
            <a:r>
              <a:rPr b="0" i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2</a:t>
            </a:r>
            <a:r>
              <a:rPr b="0" i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ваканси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Рентгенологах</a:t>
            </a:r>
            <a:r>
              <a:rPr b="0" i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</a:t>
            </a:r>
            <a:r>
              <a:rPr b="0" i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ваканси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томатологи</a:t>
            </a:r>
            <a:r>
              <a:rPr b="0" i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3</a:t>
            </a:r>
            <a:r>
              <a:rPr b="0" i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ваканси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Фармацевты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8</a:t>
            </a:r>
            <a:r>
              <a:rPr b="0" i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ваканси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Объект 3"/>
          <p:cNvGraphicFramePr/>
          <p:nvPr/>
        </p:nvGraphicFramePr>
        <p:xfrm>
          <a:off x="9659880" y="1881360"/>
          <a:ext cx="2033640" cy="21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9880" y="1881360"/>
                    <a:ext cx="20336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Объект 4"/>
          <p:cNvGraphicFramePr/>
          <p:nvPr/>
        </p:nvGraphicFramePr>
        <p:xfrm>
          <a:off x="9839160" y="4262400"/>
          <a:ext cx="172584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39160" y="4262400"/>
                    <a:ext cx="172584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14320" y="4726080"/>
            <a:ext cx="8345520" cy="18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пасибо за внимание!</a:t>
            </a:r>
            <a:br>
              <a:rPr sz="6600"/>
            </a:b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20760" y="285480"/>
            <a:ext cx="868032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едует отметить, что нет не решаемых проблем. Важно правильно подготовиться к любым обстоятельствам. Было бы желание, а работа обязательно найдется. Ведь кто ищет, тот всегда найдет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Объект 3"/>
          <p:cNvGraphicFramePr/>
          <p:nvPr/>
        </p:nvGraphicFramePr>
        <p:xfrm>
          <a:off x="9659880" y="1881360"/>
          <a:ext cx="2033640" cy="21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9880" y="1881360"/>
                    <a:ext cx="20336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Объект 4"/>
          <p:cNvGraphicFramePr/>
          <p:nvPr/>
        </p:nvGraphicFramePr>
        <p:xfrm>
          <a:off x="9839160" y="4262400"/>
          <a:ext cx="172584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39160" y="4262400"/>
                    <a:ext cx="172584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85880" y="378000"/>
            <a:ext cx="83455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«Медицинская отрасль и рынок труда в Краснодарском крае»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838080" y="2566800"/>
            <a:ext cx="8398080" cy="36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Руководитель ГКУ КК ЦЗН Тимашевского райо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Зыба Владимир Андрееви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Объект 3"/>
          <p:cNvGraphicFramePr/>
          <p:nvPr/>
        </p:nvGraphicFramePr>
        <p:xfrm>
          <a:off x="9659880" y="1881360"/>
          <a:ext cx="2033640" cy="21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9880" y="1881360"/>
                    <a:ext cx="20336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Объект 4"/>
          <p:cNvGraphicFramePr/>
          <p:nvPr/>
        </p:nvGraphicFramePr>
        <p:xfrm>
          <a:off x="9839160" y="4262400"/>
          <a:ext cx="172584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39160" y="4262400"/>
                    <a:ext cx="172584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85880" y="378000"/>
            <a:ext cx="8345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жба занятости Краснодарского края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38080" y="1825200"/>
            <a:ext cx="83980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Calibri"/>
              </a:rPr>
              <a:t>Служба занятости населения-это 44 центра занятости, расположенные в каждом муниципальном образовании Краснодарского кра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Объект 3"/>
          <p:cNvGraphicFramePr/>
          <p:nvPr/>
        </p:nvGraphicFramePr>
        <p:xfrm>
          <a:off x="9659880" y="1881360"/>
          <a:ext cx="2033640" cy="21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9880" y="1881360"/>
                    <a:ext cx="20336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Объект 4"/>
          <p:cNvGraphicFramePr/>
          <p:nvPr/>
        </p:nvGraphicFramePr>
        <p:xfrm>
          <a:off x="9839160" y="4262400"/>
          <a:ext cx="172584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39160" y="4262400"/>
                    <a:ext cx="172584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6120" y="325440"/>
            <a:ext cx="8345520" cy="23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ать заявление для постановки на учет в электронном виде на портале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838080" y="2573280"/>
            <a:ext cx="839808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бота в Росси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на Госуслугах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Объект 3"/>
          <p:cNvGraphicFramePr/>
          <p:nvPr/>
        </p:nvGraphicFramePr>
        <p:xfrm>
          <a:off x="9659880" y="1881360"/>
          <a:ext cx="2033640" cy="21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9880" y="1881360"/>
                    <a:ext cx="20336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Объект 4"/>
          <p:cNvGraphicFramePr/>
          <p:nvPr/>
        </p:nvGraphicFramePr>
        <p:xfrm>
          <a:off x="9839160" y="4262400"/>
          <a:ext cx="172584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39160" y="4262400"/>
                    <a:ext cx="172584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6120" y="325440"/>
            <a:ext cx="8345520" cy="116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едения о новых вакансиях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-360" y="2782800"/>
            <a:ext cx="542124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терактивный портал службы труд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занятости  населе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инистерства труда и социальног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звития Краснодарского края (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www.kubzan.ru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5" descr=""/>
          <p:cNvPicPr/>
          <p:nvPr/>
        </p:nvPicPr>
        <p:blipFill>
          <a:blip r:embed="rId5"/>
          <a:srcRect l="0" t="-533" r="-187" b="6191"/>
          <a:stretch/>
        </p:blipFill>
        <p:spPr>
          <a:xfrm>
            <a:off x="444600" y="1241280"/>
            <a:ext cx="4049640" cy="261144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1"/>
          <p:cNvSpPr/>
          <p:nvPr/>
        </p:nvSpPr>
        <p:spPr>
          <a:xfrm>
            <a:off x="4781520" y="1515960"/>
            <a:ext cx="436248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айт Работа в Росс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щероссийская база вакансий 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ww.trudvsem.r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7" descr=""/>
          <p:cNvPicPr/>
          <p:nvPr/>
        </p:nvPicPr>
        <p:blipFill>
          <a:blip r:embed="rId6"/>
          <a:srcRect l="20089" t="5865" r="19848" b="2752"/>
          <a:stretch/>
        </p:blipFill>
        <p:spPr>
          <a:xfrm>
            <a:off x="5369040" y="3710160"/>
            <a:ext cx="411480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Объект 3"/>
          <p:cNvGraphicFramePr/>
          <p:nvPr/>
        </p:nvGraphicFramePr>
        <p:xfrm>
          <a:off x="9659880" y="1881360"/>
          <a:ext cx="2033640" cy="21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9880" y="1881360"/>
                    <a:ext cx="20336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Объект 4"/>
          <p:cNvGraphicFramePr/>
          <p:nvPr/>
        </p:nvGraphicFramePr>
        <p:xfrm>
          <a:off x="9839160" y="4262400"/>
          <a:ext cx="172584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39160" y="4262400"/>
                    <a:ext cx="172584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3455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стникам Ярмарки вакансий предлагаются следующие услуги:</a:t>
            </a:r>
            <a:br>
              <a:rPr sz="48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52440" y="1722240"/>
            <a:ext cx="8856720" cy="44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Информация о региональном банке вакансий и потребности в медик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-  Участие в тренинге «Технологии поиска работы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-  Консультации по трудовым правам у специалистов центра занятости</a:t>
            </a:r>
            <a:r>
              <a:rPr b="0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- </a:t>
            </a: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Размещение своего резюме на сайте «Работа в России» и интерактивном портале  службы труда и занятости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www.kubzan.ru</a:t>
            </a:r>
            <a:r>
              <a:rPr b="0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Объект 3"/>
          <p:cNvGraphicFramePr/>
          <p:nvPr/>
        </p:nvGraphicFramePr>
        <p:xfrm>
          <a:off x="9659880" y="1881360"/>
          <a:ext cx="2033640" cy="21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9880" y="1881360"/>
                    <a:ext cx="20336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Объект 4"/>
          <p:cNvGraphicFramePr/>
          <p:nvPr/>
        </p:nvGraphicFramePr>
        <p:xfrm>
          <a:off x="9839160" y="4262400"/>
          <a:ext cx="172584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39160" y="4262400"/>
                    <a:ext cx="172584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8345520" cy="16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йт «Работа в России»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2" name="Объект 5" descr=""/>
          <p:cNvPicPr/>
          <p:nvPr/>
        </p:nvPicPr>
        <p:blipFill>
          <a:blip r:embed="rId5"/>
          <a:srcRect l="0" t="5862" r="516" b="8609"/>
          <a:stretch/>
        </p:blipFill>
        <p:spPr>
          <a:xfrm>
            <a:off x="595440" y="1685880"/>
            <a:ext cx="83707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Объект 3"/>
          <p:cNvGraphicFramePr/>
          <p:nvPr/>
        </p:nvGraphicFramePr>
        <p:xfrm>
          <a:off x="9659880" y="1881360"/>
          <a:ext cx="2033640" cy="21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9880" y="1881360"/>
                    <a:ext cx="20336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Объект 4"/>
          <p:cNvGraphicFramePr/>
          <p:nvPr/>
        </p:nvGraphicFramePr>
        <p:xfrm>
          <a:off x="9839160" y="4262400"/>
          <a:ext cx="172584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39160" y="4262400"/>
                    <a:ext cx="172584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8345520" cy="16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йт «Работа в России»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8" name="Объект 6" descr=""/>
          <p:cNvPicPr/>
          <p:nvPr/>
        </p:nvPicPr>
        <p:blipFill>
          <a:blip r:embed="rId5"/>
          <a:srcRect l="9990" t="6355" r="4943" b="4903"/>
          <a:stretch/>
        </p:blipFill>
        <p:spPr>
          <a:xfrm>
            <a:off x="606600" y="1849320"/>
            <a:ext cx="803880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Объект 3"/>
          <p:cNvGraphicFramePr/>
          <p:nvPr/>
        </p:nvGraphicFramePr>
        <p:xfrm>
          <a:off x="9659880" y="1881360"/>
          <a:ext cx="2033640" cy="21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9880" y="1881360"/>
                    <a:ext cx="20336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Объект 4"/>
          <p:cNvGraphicFramePr/>
          <p:nvPr/>
        </p:nvGraphicFramePr>
        <p:xfrm>
          <a:off x="9839160" y="4262400"/>
          <a:ext cx="172584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39160" y="4262400"/>
                    <a:ext cx="172584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345520" cy="113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активный портал службы занятости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www.kubzan.ru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4" name="Объект 10" descr=""/>
          <p:cNvPicPr/>
          <p:nvPr/>
        </p:nvPicPr>
        <p:blipFill>
          <a:blip r:embed="rId5"/>
          <a:srcRect l="0" t="6226" r="579" b="3482"/>
          <a:stretch/>
        </p:blipFill>
        <p:spPr>
          <a:xfrm>
            <a:off x="534960" y="1854360"/>
            <a:ext cx="862164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19T19:35:26Z</dcterms:created>
  <dc:creator>Modenko</dc:creator>
  <dc:description/>
  <dc:language>en-US</dc:language>
  <cp:lastModifiedBy>User</cp:lastModifiedBy>
  <dcterms:modified xsi:type="dcterms:W3CDTF">2020-12-22T14:10:11Z</dcterms:modified>
  <cp:revision>58</cp:revision>
  <dc:subject/>
  <dc:title>Презентация PowerPoint</dc:title>
</cp:coreProperties>
</file>